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9DC-A5DD-48AC-8BB2-4F230EDE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3D8-C127-4C03-BE67-0626EF5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BF6-3C86-43B4-85C3-2CA607AF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602-B4F7-4603-AA07-4CE8F390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610-3551-4159-8798-D396B858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1A0-87C9-4CA9-BA7A-D91BCD8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3E5-519A-4BD9-B279-25072F17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84B-C922-4180-8A90-4F02D2E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A16-D7CA-4F65-9F9E-C76E13BF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537-675D-4B9E-B87B-B20466E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EC3-3BAF-44FB-A3B5-D20F13B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DD9-F247-4C14-B53F-CB1E64C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211C-4930-4810-8808-DC5DE3D9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84240"/>
            <a:ext cx="8610480" cy="659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Structur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rounding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membrane of cell that controls movement in and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24852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found in plant cells 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&amp; protects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6172200"/>
            <a:ext cx="6248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s cel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from cytoplasm by 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genetic material -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two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s allow material to enter and leave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786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instructions for traits &amp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6248520"/>
            <a:ext cx="708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RNA to build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6905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095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24852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-like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by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hereditary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materials around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type: lack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type (pictured): ribosomes embedded in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09588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contains thous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endoplasmic reticulum &amp; floating throughout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6172200"/>
            <a:ext cx="579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energy through chemical reactions – breaking down fats &amp;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level of water and other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617220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lgi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'packaging plant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13874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6078600"/>
            <a:ext cx="7315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'plant' for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undigested material to cell membrane for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breaks down if lysosome expl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6467400"/>
            <a:ext cx="7391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-bound sacs for storage, digestion, and wast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wa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plants maintain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6248520"/>
            <a:ext cx="617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und in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green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photosynthesis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61722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of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436760" cy="229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19520" cy="189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1676520"/>
            <a:ext cx="2819520" cy="533160"/>
          </a:xfrm>
          <a:prstGeom prst="wedgeRoundRectCallout">
            <a:avLst>
              <a:gd name="adj1" fmla="val -78435"/>
              <a:gd name="adj2" fmla="val 3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438280"/>
            <a:ext cx="1981440" cy="381240"/>
          </a:xfrm>
          <a:prstGeom prst="wedgeRoundRectCallout">
            <a:avLst>
              <a:gd name="adj1" fmla="val 97115"/>
              <a:gd name="adj2" fmla="val -512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114800"/>
            <a:ext cx="2362320" cy="457200"/>
          </a:xfrm>
          <a:prstGeom prst="wedgeRoundRectCallout">
            <a:avLst>
              <a:gd name="adj1" fmla="val -34208"/>
              <a:gd name="adj2" fmla="val 20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1596960" cy="218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5029200"/>
            <a:ext cx="1981080" cy="457200"/>
          </a:xfrm>
          <a:prstGeom prst="wedgeRoundRectCallout">
            <a:avLst>
              <a:gd name="adj1" fmla="val -107291"/>
              <a:gd name="adj2" fmla="val 7777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657600" y="3048120"/>
            <a:ext cx="2019240" cy="165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276720"/>
            <a:ext cx="2057400" cy="533160"/>
          </a:xfrm>
          <a:prstGeom prst="wedgeRoundRectCallout">
            <a:avLst>
              <a:gd name="adj1" fmla="val 114736"/>
              <a:gd name="adj2" fmla="val 419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95120" y="24379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have structures surrounded by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inter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celled organisms,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648320" cy="402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64008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pro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ed by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75080" cy="364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3244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eu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077320" cy="5862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61722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eb.jjay.cuny.edu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~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carpi/NSC/images/cell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324480"/>
            <a:ext cx="83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aynesword.palomar.edu/images/plant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2:38:52Z</dcterms:created>
  <dc:creator>Mary Poarch</dc:creator>
  <dc:description/>
  <dc:language>en-US</dc:language>
  <cp:lastModifiedBy>St. Aloysius</cp:lastModifiedBy>
  <dcterms:modified xsi:type="dcterms:W3CDTF">2012-02-09T13:50:57Z</dcterms:modified>
  <cp:revision>98</cp:revision>
  <dc:subject/>
  <dc:title>Cell Structure &amp; Function</dc:title>
</cp:coreProperties>
</file>